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0FF-5F39-4246-9732-86CB53C9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EB7-9E5D-4E34-8D3C-6C6634D2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35B-5CDE-411F-BDF7-6D7FAA22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CF9-18F4-414F-AB14-CD17BDDF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6E4-01CF-45A3-ABC2-8A05779B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120-DD49-4D6C-AA53-2F4A860F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282-2D73-4862-9D0A-E8E6F54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DD0-3086-4FD1-928A-22C0C812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2C1-B1C4-4C2F-974F-93085ED9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149-67A4-4BE1-91F8-2A15886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F2C-2802-47F2-972A-58C367FD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D54-0C7C-4ECA-B9E4-7440086D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ccen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ccent S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ccen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ccen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ccent S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855-9B47-44BB-B14A-15146B999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ccent SF"/>
              </a:rPr>
              <a:t>Fractions </a:t>
            </a: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6600" spc="-1" strike="noStrike">
                <a:solidFill>
                  <a:srgbClr val="ffffff"/>
                </a:solidFill>
                <a:latin typeface="Accent SF"/>
              </a:rPr>
              <a:t> Percentages</a:t>
            </a:r>
            <a:endParaRPr b="0" lang="en-US" sz="66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ccent SF"/>
              </a:rPr>
              <a:t>[Crash course]</a:t>
            </a:r>
            <a:endParaRPr b="0" lang="en-US" sz="4800" spc="-1" strike="noStrike">
              <a:solidFill>
                <a:srgbClr val="ffffff"/>
              </a:solidFill>
              <a:latin typeface="Accent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ccent SF"/>
              </a:rPr>
              <a:t>Done it!!!</a:t>
            </a:r>
            <a:endParaRPr b="0" lang="en-US" sz="80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41200" y="-380880"/>
            <a:ext cx="9385200" cy="75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Recap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0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/5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3/6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4/25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83/100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60%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1%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820880" cy="167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71800" y="1981080"/>
            <a:ext cx="220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8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3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1/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25920" y="3282840"/>
            <a:ext cx="1892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Popular Fractions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51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2    = 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/3      = 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4   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5   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10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20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25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 / 50 =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281952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5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33526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0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38862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0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4419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5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9528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4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5486400"/>
            <a:ext cx="1676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752480"/>
            <a:ext cx="2210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50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2286000"/>
            <a:ext cx="4724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33.33333333 % </a:t>
            </a:r>
            <a:r>
              <a:rPr b="1" lang="en-US" sz="36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385200" cy="75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ccent SF"/>
              </a:rPr>
              <a:t>Aim</a:t>
            </a:r>
            <a:endParaRPr b="0" lang="en-US" sz="5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ccent SF"/>
              </a:rPr>
              <a:t>To deal with the “Fraction to Percentage” questions that come up on the Numeracy Skills Test</a:t>
            </a:r>
            <a:endParaRPr b="0" lang="en-US" sz="36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193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Doing i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ccent S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SpotFirst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ccent S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ChangeSecond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906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ccent SF"/>
              </a:rPr>
              <a:t>SpotFirs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ome fractions can be ‘spotted’ straight away.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9/50…38/100…38%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8/25…32/100…32%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1/20…55/100…55%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8809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ccent SF"/>
              </a:rPr>
              <a:t>SpotFirs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Some fractions need simplifying before you can spot them.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36/40…9/10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4/60…2/5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18/24…3/4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4/36…2/3 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21/42…1/2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8809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ccent SF"/>
              </a:rPr>
              <a:t>ChangeSecond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You should now be able to recognise the Popular Fractions and change them into percentages in your head.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68" name=""/>
          <p:cNvSpPr/>
          <p:nvPr/>
        </p:nvSpPr>
        <p:spPr>
          <a:xfrm>
            <a:off x="1284480" y="3657600"/>
            <a:ext cx="4041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36/40…9/10…9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4/60…2/5…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45720" y="411480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648320"/>
            <a:ext cx="792468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18/24…3/4…7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4/36…2/3…66.666666667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ccent SF"/>
              </a:rPr>
              <a:t>21/42…1/2…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149720"/>
            <a:ext cx="121896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96080" y="609480"/>
            <a:ext cx="8812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Test Question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ccent SF"/>
              </a:rPr>
              <a:t>Out of three classes of twenty seven pupils, fifty four pupils took the higher science paper. What percentage took this paper? Give your answer correct to one decimal place.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86220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ccent SF"/>
              </a:rPr>
              <a:t>Doing It</a:t>
            </a:r>
            <a:endParaRPr b="0" lang="en-US" sz="44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906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ccent S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SpotFirst</a:t>
            </a:r>
            <a:endParaRPr b="0" lang="en-US" sz="3200" spc="-1" strike="noStrike">
              <a:solidFill>
                <a:srgbClr val="ffffff"/>
              </a:solidFill>
              <a:latin typeface="Accent SF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ccent SF"/>
              </a:rPr>
              <a:t>54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ccent SF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ccent S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81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9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Accent SF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971800"/>
            <a:ext cx="457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971800"/>
            <a:ext cx="457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029200"/>
            <a:ext cx="457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90640" cy="1346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3886200"/>
            <a:ext cx="72709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ccent S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ccent SF"/>
              </a:rPr>
              <a:t>Change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ccent SF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2 x 33.33333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ccent SF"/>
              </a:rPr>
              <a:t>= 66.666667% = 66.7% (1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14:22:59Z</dcterms:created>
  <dc:creator>Computing Services</dc:creator>
  <dc:description/>
  <dc:language>en-US</dc:language>
  <cp:lastModifiedBy>Bruno Reddy</cp:lastModifiedBy>
  <dcterms:modified xsi:type="dcterms:W3CDTF">2004-07-22T23:10:17Z</dcterms:modified>
  <cp:revision>3</cp:revision>
  <dc:subject/>
  <dc:title>Fractions  Percentages</dc:title>
</cp:coreProperties>
</file>