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3D9-93FA-45A6-9D1A-6910DC26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405-1D29-4F9D-806A-8ABD7BEF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D90-2C0C-450C-B57C-2AC7BB4A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CD0-3CB3-49BF-8D88-4F7C6B15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304-CC3B-48A0-966C-2E03EC33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B8A-30DE-488C-A804-3F62956C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0A2-670B-4548-9611-A03AF807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F90-D2F5-43C6-BCDC-8D9BA170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843-49D6-4DC2-9E3D-7ED3D24D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DA9-A9B5-40D9-8683-B432FC0D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7E0-E7FA-4713-B949-7D95E94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DA0-B67B-4FD2-938B-9020FB6A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Click to edit the title text format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BB2C-479C-4FC9-ADF2-1EA337BA3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mmetr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lective symmet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2D shape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pictures and pattern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selations…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53040" y="838080"/>
            <a:ext cx="36385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754200"/>
            <a:ext cx="7848720" cy="54021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44956" dir="3129747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646200"/>
            <a:ext cx="5791320" cy="571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727200"/>
            <a:ext cx="8229600" cy="540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irr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help you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met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one half of the shape is a mirror image of the other hal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ine of 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met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mirror 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metric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the opposite of symmetry, one half of the shape is not a mirror image of the o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B C D E F G H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I J K L M N O 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Q R S T U V W X Y 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Homework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 a shape wit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lines of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lines of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lines of symmetry… label this shape with the word which describes no lines of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lines of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53040" y="838080"/>
            <a:ext cx="36385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457200" y="914400"/>
            <a:ext cx="405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’s the symmetry in our pot from Zaire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3720" y="685800"/>
            <a:ext cx="4876560" cy="53341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22840" y="64620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ne of symmetry is sometimes called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rro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048120"/>
            <a:ext cx="144756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620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360" y="722160"/>
            <a:ext cx="2813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2-D shape has a line of symmetry if the line divides the shape into two halves and one half is the mirror image of the other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50480" y="22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2760" y="617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1828800"/>
            <a:ext cx="4648320" cy="32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ubCross"/>
          <p:cNvSpPr/>
          <p:nvPr/>
        </p:nvSpPr>
        <p:spPr>
          <a:xfrm>
            <a:off x="1219320" y="685800"/>
            <a:ext cx="5715000" cy="5791320"/>
          </a:xfrm>
          <a:custGeom>
            <a:avLst/>
            <a:gdLst>
              <a:gd name="textAreaLeft" fmla="*/ 1428840 w 5715000"/>
              <a:gd name="textAreaRight" fmla="*/ 4286520 w 5715000"/>
              <a:gd name="textAreaTop" fmla="*/ 1447920 h 5791320"/>
              <a:gd name="textAreaBottom" fmla="*/ 4343760 h 57913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</a:path>
              <a:path w="21600" h="21600">
                <a:moveTo>
                  <a:pt x="5400" y="5400"/>
                </a:moveTo>
                <a:lnTo>
                  <a:pt x="0" y="5400"/>
                </a:lnTo>
                <a:lnTo>
                  <a:pt x="0" y="16200"/>
                </a:lnTo>
              </a:path>
              <a:path w="21600" h="21600">
                <a:moveTo>
                  <a:pt x="5400" y="16200"/>
                </a:moveTo>
                <a:lnTo>
                  <a:pt x="5400" y="21600"/>
                </a:lnTo>
                <a:lnTo>
                  <a:pt x="16200" y="21600"/>
                </a:lnTo>
              </a:path>
              <a:path w="21600" h="21600">
                <a:moveTo>
                  <a:pt x="16200" y="16200"/>
                </a:move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</a:path>
            </a:pathLst>
          </a:cu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71960" y="457200"/>
            <a:ext cx="0" cy="64008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581280"/>
            <a:ext cx="624816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14440" y="1828800"/>
            <a:ext cx="3886200" cy="38862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14720" y="1862280"/>
            <a:ext cx="3581280" cy="358128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286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find a line of symmetr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990720"/>
            <a:ext cx="176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the shape onto tracing paper… fold the paper and check each half are an exact 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… use a mirror and check the reflection is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816200" y="755640"/>
          <a:ext cx="5511600" cy="5346720"/>
        </p:xfrm>
        <a:graphic>
          <a:graphicData uri="http://schemas.openxmlformats.org/drawingml/2006/table">
            <a:tbl>
              <a:tblPr/>
              <a:tblGrid>
                <a:gridCol w="688680"/>
                <a:gridCol w="689040"/>
                <a:gridCol w="688680"/>
                <a:gridCol w="689040"/>
                <a:gridCol w="689040"/>
                <a:gridCol w="689040"/>
                <a:gridCol w="689040"/>
                <a:gridCol w="68904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572000" y="304920"/>
            <a:ext cx="0" cy="6095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50480" y="617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50480" y="22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4243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9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5088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816200" y="755640"/>
          <a:ext cx="5511600" cy="5346720"/>
        </p:xfrm>
        <a:graphic>
          <a:graphicData uri="http://schemas.openxmlformats.org/drawingml/2006/table">
            <a:tbl>
              <a:tblPr/>
              <a:tblGrid>
                <a:gridCol w="689040"/>
                <a:gridCol w="688680"/>
                <a:gridCol w="689040"/>
                <a:gridCol w="689040"/>
                <a:gridCol w="689040"/>
                <a:gridCol w="689040"/>
                <a:gridCol w="688680"/>
                <a:gridCol w="689040"/>
              </a:tblGrid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50480" y="22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50480" y="617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14240" y="1447920"/>
            <a:ext cx="205740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14240" y="5410080"/>
            <a:ext cx="205740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514600" y="3429000"/>
            <a:ext cx="1371600" cy="6858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4114800"/>
            <a:ext cx="0" cy="12952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514600" y="1447560"/>
            <a:ext cx="1371600" cy="19810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762120"/>
            <a:ext cx="1463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 if you’re using graph paper, count the squ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916280"/>
            <a:ext cx="83822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446040"/>
            <a:ext cx="6096240" cy="596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43000" y="596880"/>
            <a:ext cx="6781680" cy="5729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009" dir="2906017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9:17:02Z</dcterms:created>
  <dc:creator>Whitfield</dc:creator>
  <dc:description/>
  <dc:language>en-US</dc:language>
  <cp:lastModifiedBy>Bruno Reddy</cp:lastModifiedBy>
  <dcterms:modified xsi:type="dcterms:W3CDTF">2006-01-12T21:42:01Z</dcterms:modified>
  <cp:revision>54</cp:revision>
  <dc:subject/>
  <dc:title>Slide 1</dc:title>
</cp:coreProperties>
</file>