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E2E1-88D2-4551-AED1-8F849659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DAD-9F0A-4E07-B505-50BF161F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44A3-C3BC-4FB0-A8B3-C30F3C4A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B5B-44B0-4C32-86F2-5324FAA4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EC78-ED05-4F44-A53F-B59D22B6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F1AC-3FB8-4F62-9F73-AC1EF0EC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586C-AB1D-4A27-A9FC-2A155E3F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CF2-E2AE-43A8-84BB-F65EF43B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45D8-81B0-4009-A00D-3E73D8A0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D582-8239-499C-8D1E-5A291591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D53-BC91-48A5-9DBE-8CA61C1C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B6BD-35F2-4A04-B109-E9FAF887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Click to edit the title text format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2081-B519-46D0-8F2C-92990BC151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 Black"/>
              </a:rPr>
              <a:t>Tesselations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2477880" cy="51051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17181" dir="2961631" blurRad="0" rotWithShape="0">
              <a:srgbClr val="0033cc"/>
            </a:outerShdw>
          </a:effectLst>
        </p:spPr>
      </p:pic>
      <p:sp>
        <p:nvSpPr>
          <p:cNvPr id="43" name=""/>
          <p:cNvSpPr/>
          <p:nvPr/>
        </p:nvSpPr>
        <p:spPr>
          <a:xfrm>
            <a:off x="517680" y="1407960"/>
            <a:ext cx="451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pattern of shapes which fit together without leaving any gaps or overlapping is called a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 Black"/>
              </a:rPr>
              <a:t>tess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6680" y="638172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lhambra… Sp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43000" y="1143000"/>
            <a:ext cx="0" cy="4800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1143000"/>
            <a:ext cx="0" cy="4800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58200" y="1143000"/>
            <a:ext cx="0" cy="4800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176480"/>
            <a:ext cx="7315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5896080"/>
            <a:ext cx="7315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4286160"/>
            <a:ext cx="7315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2714760"/>
            <a:ext cx="7315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1143000"/>
            <a:ext cx="106668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1143000"/>
            <a:ext cx="106668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86680" y="4267080"/>
            <a:ext cx="106668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666520" y="2743200"/>
            <a:ext cx="83844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120" y="2743200"/>
            <a:ext cx="83844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38440" y="4267080"/>
            <a:ext cx="106668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66680" y="1371600"/>
            <a:ext cx="0" cy="3962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1371600"/>
            <a:ext cx="0" cy="3962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1371600"/>
            <a:ext cx="2133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5334120"/>
            <a:ext cx="2133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8680" y="2590920"/>
            <a:ext cx="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62404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08636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133720" y="1371240"/>
            <a:ext cx="106668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066680" y="4114440"/>
            <a:ext cx="106704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1371600"/>
            <a:ext cx="0" cy="3962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1371600"/>
            <a:ext cx="0" cy="3962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1371600"/>
            <a:ext cx="2133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5334120"/>
            <a:ext cx="2133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2400" y="2590920"/>
            <a:ext cx="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262404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408636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267080" y="1371240"/>
            <a:ext cx="106704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00400" y="4114440"/>
            <a:ext cx="106668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1371600"/>
            <a:ext cx="0" cy="3962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1371600"/>
            <a:ext cx="2133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5334120"/>
            <a:ext cx="2133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96120" y="2590920"/>
            <a:ext cx="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262404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408636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400800" y="1371240"/>
            <a:ext cx="106668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334120" y="4114440"/>
            <a:ext cx="106668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1371600"/>
            <a:ext cx="0" cy="3962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Next week…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tational symmet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 remember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essela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s a pattern of shape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at cover a flat surface without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aving any gap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 without overlapping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64160" y="1828800"/>
            <a:ext cx="4054320" cy="4114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25751" dir="2700000" blurRad="0" rotWithShape="0">
              <a:srgbClr val="0033c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752400"/>
            <a:ext cx="8001000" cy="5302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519840" y="62848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oman mosa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649440"/>
            <a:ext cx="7848720" cy="5613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18040" y="628488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rsian… Iraq, Iran, Saudi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94040" y="685800"/>
            <a:ext cx="5229000" cy="5410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674280" y="6132600"/>
            <a:ext cx="42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zantine… Greek 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re 200-400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9120" y="861840"/>
            <a:ext cx="8105760" cy="513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442800" y="6208560"/>
            <a:ext cx="11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yp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38080" y="446040"/>
          <a:ext cx="7467840" cy="596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46040"/>
                    <a:ext cx="7467840" cy="5965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Exercise… a tra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ezium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 the cut-out trapezium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a trapezium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quadrilateral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two sides parall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191120"/>
            <a:ext cx="2438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5715000"/>
            <a:ext cx="358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191120"/>
            <a:ext cx="0" cy="1523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4191120"/>
            <a:ext cx="1143000" cy="1523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8880" y="5983200"/>
            <a:ext cx="75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any ways can you tessellate this trapezi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24080" y="1066680"/>
            <a:ext cx="2438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023840"/>
            <a:ext cx="0" cy="3200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1023840"/>
            <a:ext cx="0" cy="1676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124080" y="2666880"/>
            <a:ext cx="2438640" cy="1524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2700360"/>
            <a:ext cx="0" cy="320040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4238640"/>
            <a:ext cx="0" cy="167652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124080" y="2742840"/>
            <a:ext cx="2438640" cy="152388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5877000"/>
            <a:ext cx="243864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1066680"/>
            <a:ext cx="0" cy="1676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10240" y="106668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48520" y="1038240"/>
            <a:ext cx="0" cy="3200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2695680"/>
            <a:ext cx="2438640" cy="1523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43000" y="1295280"/>
            <a:ext cx="0" cy="4648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1295280"/>
            <a:ext cx="0" cy="4648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1295280"/>
            <a:ext cx="0" cy="4648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2200" y="1295280"/>
            <a:ext cx="0" cy="4648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48720" y="1295280"/>
            <a:ext cx="0" cy="4648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1295280"/>
            <a:ext cx="6705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5943600"/>
            <a:ext cx="6705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2795760"/>
            <a:ext cx="1676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2819520"/>
            <a:ext cx="167616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43280"/>
            <a:ext cx="1676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2867040"/>
            <a:ext cx="16765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9:17:02Z</dcterms:created>
  <dc:creator>Whitfield</dc:creator>
  <dc:description/>
  <dc:language>en-US</dc:language>
  <cp:lastModifiedBy>Bruno Reddy</cp:lastModifiedBy>
  <dcterms:modified xsi:type="dcterms:W3CDTF">2006-01-12T21:42:17Z</dcterms:modified>
  <cp:revision>54</cp:revision>
  <dc:subject/>
  <dc:title>Slide 1</dc:title>
</cp:coreProperties>
</file>