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EAE-65A0-4150-8BF6-063051E0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5EA-AE3D-46C8-953B-01374564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DDA-225C-4442-B297-731532F6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7A3-A085-4BD3-9AF7-F7A944D1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C43-5A98-4FED-8452-D6D58CA7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821-5C2C-4260-8BA7-37EDBA66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2A2-A3B2-483B-93A9-1F5058E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66C-8E3D-4CAB-812E-70325FE3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46E-BD98-4033-BC8E-422F380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F32-0351-4D91-99BC-5A8F5973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E0C-CEC8-4BE9-9148-3F8705D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FFF-517F-459D-8DA0-D12C516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33E-1F27-4CF4-8EF3-183B69AA8CC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form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 the difference between reflection, rotation and trans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reflect simple shapes in vertical or horizontal mirror li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lip an object in the mi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2421000"/>
            <a:ext cx="0" cy="360036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2400" y="6093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rro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185920" cy="2914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urn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24360" y="5373720"/>
            <a:ext cx="2964240" cy="1179000"/>
            <a:chOff x="3924360" y="5373720"/>
            <a:chExt cx="2964240" cy="1179000"/>
          </a:xfrm>
        </p:grpSpPr>
        <p:sp>
          <p:nvSpPr>
            <p:cNvPr id="55" name=""/>
            <p:cNvSpPr/>
            <p:nvPr/>
          </p:nvSpPr>
          <p:spPr>
            <a:xfrm>
              <a:off x="4427640" y="602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924360" y="5373720"/>
              <a:ext cx="2964240" cy="1179000"/>
              <a:chOff x="3924360" y="5373720"/>
              <a:chExt cx="2964240" cy="117900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3924360" y="5373720"/>
                <a:ext cx="792000" cy="7920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33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48040" y="6093000"/>
                <a:ext cx="214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90° Clockwi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lide an object in any di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63" name=""/>
          <p:cNvGrpSpPr/>
          <p:nvPr/>
        </p:nvGrpSpPr>
        <p:grpSpPr>
          <a:xfrm>
            <a:off x="4067280" y="4508640"/>
            <a:ext cx="1981440" cy="1901160"/>
            <a:chOff x="4067280" y="4508640"/>
            <a:chExt cx="1981440" cy="1901160"/>
          </a:xfrm>
        </p:grpSpPr>
        <p:sp>
          <p:nvSpPr>
            <p:cNvPr id="64" name=""/>
            <p:cNvSpPr/>
            <p:nvPr/>
          </p:nvSpPr>
          <p:spPr>
            <a:xfrm>
              <a:off x="4118760" y="595008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ight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7280" y="4508640"/>
              <a:ext cx="1152360" cy="1393560"/>
            </a:xfrm>
            <a:custGeom>
              <a:avLst/>
              <a:gdLst>
                <a:gd name="textAreaLeft" fmla="*/ 384120 w 1152360"/>
                <a:gd name="textAreaRight" fmla="*/ 987120 w 1152360"/>
                <a:gd name="textAreaTop" fmla="*/ 988200 h 1393560"/>
                <a:gd name="textAreaBottom" fmla="*/ 1193760 h 139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14"/>
                  </a:moveTo>
                  <a:lnTo>
                    <a:pt x="15314" y="18414"/>
                  </a:lnTo>
                  <a:lnTo>
                    <a:pt x="15314" y="7200"/>
                  </a:lnTo>
                  <a:lnTo>
                    <a:pt x="12214" y="7200"/>
                  </a:lnTo>
                  <a:lnTo>
                    <a:pt x="1690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04880" y="5229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p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21146 1.11111E-006 C 0.30643 1.11111E-006 0.42327 -0.06019 0.42327 -0.10903 L 0.42327 -0.21783 E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2:21:02Z</dcterms:created>
  <dc:creator>Bruno Reddy</dc:creator>
  <dc:description/>
  <dc:language>en-US</dc:language>
  <cp:lastModifiedBy>Bruno Reddy</cp:lastModifiedBy>
  <dcterms:modified xsi:type="dcterms:W3CDTF">2006-05-14T18:13:36Z</dcterms:modified>
  <cp:revision>6</cp:revision>
  <dc:subject/>
  <dc:title>Transformations</dc:title>
</cp:coreProperties>
</file>