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284-BE7C-413A-AF9B-2DE4E715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54D-A7F0-47BA-99B3-1DF71884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DD6-3880-4B79-83C3-5DC2C2C6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E87-03D6-459F-97F8-A22DFDDE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06B-8829-4244-A67A-5609D056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5D9-BAAD-4EFB-BECC-882E1F55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922-2334-4C2E-A00B-6628B7FC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25C-62C2-445F-87C4-5081B086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A98-A079-4035-BF13-46FB168B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BE3-F07C-419B-8329-82E11DD0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615-172A-485D-8E07-074C1AE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B08-7345-4411-A340-0056C5A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ccen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ccen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ccen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ccen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ccen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1F9A-3980-4C15-B96A-C24A3F341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ccent SF"/>
              </a:rPr>
              <a:t>Fractions </a:t>
            </a: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6600" spc="-1" strike="noStrike">
                <a:solidFill>
                  <a:srgbClr val="ffffff"/>
                </a:solidFill>
                <a:latin typeface="Accent SF"/>
              </a:rPr>
              <a:t> Percentages</a:t>
            </a:r>
            <a:endParaRPr b="0" lang="en-US" sz="66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ccent SF"/>
              </a:rPr>
              <a:t>[Crash course]</a:t>
            </a:r>
            <a:endParaRPr b="0" lang="en-US" sz="4800" spc="-1" strike="noStrike">
              <a:solidFill>
                <a:srgbClr val="ffffff"/>
              </a:solidFill>
              <a:latin typeface="Accen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ccent SF"/>
              </a:rPr>
              <a:t>Done it!!!</a:t>
            </a:r>
            <a:endParaRPr b="0" lang="en-US" sz="80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41200" y="-380880"/>
            <a:ext cx="938520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Recap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0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/5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3/6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4/25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83/100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60%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1%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820880" cy="167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71800" y="1981080"/>
            <a:ext cx="220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8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3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1/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25920" y="3282840"/>
            <a:ext cx="1892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Popular Fractions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51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2    = 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/3      = 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4   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5   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10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20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25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50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281952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5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33526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0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38862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0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4419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5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4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5486400"/>
            <a:ext cx="1676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752480"/>
            <a:ext cx="2210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50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2286000"/>
            <a:ext cx="4724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33.33333333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38520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ccent SF"/>
              </a:rPr>
              <a:t>Aim</a:t>
            </a:r>
            <a:endParaRPr b="0" lang="en-US" sz="5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ccent SF"/>
              </a:rPr>
              <a:t>To deal with the “Fraction to Percentage” questions that come up on the Numeracy Skills Test</a:t>
            </a:r>
            <a:endParaRPr b="0" lang="en-US" sz="36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193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Doing i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ccent S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SpotFirst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ccent S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ChangeSecond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906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ccent SF"/>
              </a:rPr>
              <a:t>SpotFirs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ome fractions can be ‘spotted’ straight away.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9/50…38/100…38%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8/25…32/100…32%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1/20…55/100…55%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8809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ccent SF"/>
              </a:rPr>
              <a:t>SpotFirs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ome fractions need simplifying before you can spot them.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36/40…9/10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4/60…2/5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8/24…3/4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4/36…2/3 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1/42…1/2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8809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ccent SF"/>
              </a:rPr>
              <a:t>ChangeSecond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You should now be able to recognise the Popular Fractions and change them into percentages in your head.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8" name=""/>
          <p:cNvSpPr/>
          <p:nvPr/>
        </p:nvSpPr>
        <p:spPr>
          <a:xfrm>
            <a:off x="1284480" y="3657600"/>
            <a:ext cx="4041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36/40…9/10…9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4/60…2/5…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45720" y="411480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648320"/>
            <a:ext cx="792468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8/24…3/4…7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4/36…2/3…66.666666667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1/42…1/2…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149720"/>
            <a:ext cx="121896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96080" y="609480"/>
            <a:ext cx="8812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Test Question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Out of three classes of twenty seven pupils, fifty four pupils took the higher science paper. What percentage took this paper? Give your answer correct to one decimal place.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8622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Doing I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906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ccent S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SpotFirst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ccent SF"/>
              </a:rPr>
              <a:t>54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ccent SF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ccent S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81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9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971800"/>
            <a:ext cx="457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971800"/>
            <a:ext cx="457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029200"/>
            <a:ext cx="457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90640" cy="1346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3886200"/>
            <a:ext cx="72709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ccent S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Change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ccent SF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2 x 33.33333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= 66.666667% = 66.7% (1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14:22:59Z</dcterms:created>
  <dc:creator>Computing Services</dc:creator>
  <dc:description/>
  <dc:language>en-US</dc:language>
  <cp:lastModifiedBy>Bruno Reddy</cp:lastModifiedBy>
  <dcterms:modified xsi:type="dcterms:W3CDTF">2004-07-22T23:10:17Z</dcterms:modified>
  <cp:revision>3</cp:revision>
  <dc:subject/>
  <dc:title>Fractions  Percentages</dc:title>
</cp:coreProperties>
</file>