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ED8F-07DC-47B2-89A2-DDE8708F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85A9-A1F3-4C4F-86AF-14A74277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E97-EFBC-4547-8045-AA96EF37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146-E07C-41D5-97AB-983C6656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E00-D1E5-41AF-8A01-658E99FB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78B-2B60-4ADA-A7C7-95DE3948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B1EB-71BF-4A3F-8D82-C9647977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277E-A0E1-49D3-B762-60C18294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576-6960-4B4C-9334-71519924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6F01-8631-4ECE-B14D-7F7541B8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391-606E-48D4-A94A-A1C26FA6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9FD-2A63-4277-BCAD-88BD3417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Click to edit the title text format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3FC7-EBC7-4AAB-9A28-8AB470DAC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y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mmetr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y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flective symmetr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2D shape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pictures and pattern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sselations…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tational symmet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53040" y="838080"/>
            <a:ext cx="363852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25751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9480" y="754200"/>
            <a:ext cx="7848720" cy="54021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44956" dir="3129747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00200" y="646200"/>
            <a:ext cx="5791320" cy="5716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727200"/>
            <a:ext cx="8229600" cy="540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irr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help you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met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 one half of the shape is a mirror image of the other hal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Line of 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met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mirror 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metric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 the opposite of symmetry, one half of the shape is not a mirror image of the oth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 B C D E F G H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I J K L M N O 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Q R S T U V W X Y 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Homework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w a shape with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lines of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 lines of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lines of symmetry… label this shape with the word which describes no lines of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lines of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153040" y="838080"/>
            <a:ext cx="363852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25751" dir="2700000" blurRad="0" rotWithShape="0">
              <a:srgbClr val="808080"/>
            </a:outerShdw>
          </a:effectLst>
        </p:spPr>
      </p:pic>
      <p:sp>
        <p:nvSpPr>
          <p:cNvPr id="89" name=""/>
          <p:cNvSpPr/>
          <p:nvPr/>
        </p:nvSpPr>
        <p:spPr>
          <a:xfrm>
            <a:off x="457200" y="914400"/>
            <a:ext cx="405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’s the symmetry in our pot from Zaire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33720" y="685800"/>
            <a:ext cx="4876560" cy="53341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22840" y="646200"/>
            <a:ext cx="29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line of symmetry is sometimes called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rror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3048120"/>
            <a:ext cx="1447560" cy="1523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080" y="620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360" y="722160"/>
            <a:ext cx="2813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2-D shape has a line of symmetry if the line divides the shape into two halves and one half is the mirror image of the other h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50480" y="228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2760" y="6172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0" y="1828800"/>
            <a:ext cx="4648320" cy="320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ubCross"/>
          <p:cNvSpPr/>
          <p:nvPr/>
        </p:nvSpPr>
        <p:spPr>
          <a:xfrm>
            <a:off x="1219320" y="685800"/>
            <a:ext cx="5715000" cy="5791320"/>
          </a:xfrm>
          <a:custGeom>
            <a:avLst/>
            <a:gdLst>
              <a:gd name="textAreaLeft" fmla="*/ 1428840 w 5715000"/>
              <a:gd name="textAreaRight" fmla="*/ 4286520 w 5715000"/>
              <a:gd name="textAreaTop" fmla="*/ 1447920 h 5791320"/>
              <a:gd name="textAreaBottom" fmla="*/ 4343760 h 579132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</a:path>
              <a:path w="21600" h="21600">
                <a:moveTo>
                  <a:pt x="5400" y="5400"/>
                </a:moveTo>
                <a:lnTo>
                  <a:pt x="0" y="5400"/>
                </a:lnTo>
                <a:lnTo>
                  <a:pt x="0" y="16200"/>
                </a:lnTo>
              </a:path>
              <a:path w="21600" h="21600">
                <a:moveTo>
                  <a:pt x="5400" y="16200"/>
                </a:moveTo>
                <a:lnTo>
                  <a:pt x="5400" y="21600"/>
                </a:lnTo>
                <a:lnTo>
                  <a:pt x="16200" y="21600"/>
                </a:lnTo>
              </a:path>
              <a:path w="21600" h="21600">
                <a:moveTo>
                  <a:pt x="16200" y="16200"/>
                </a:move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</a:path>
            </a:pathLst>
          </a:cu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71960" y="457200"/>
            <a:ext cx="0" cy="640080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3581280"/>
            <a:ext cx="6248160" cy="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14440" y="1828800"/>
            <a:ext cx="3886200" cy="388620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14720" y="1862280"/>
            <a:ext cx="3581280" cy="358128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228600"/>
            <a:ext cx="23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 find a line of symmetr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990720"/>
            <a:ext cx="1768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 the shape onto tracing paper… fold the paper and check each half are an exact f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… use a mirror and check the reflection is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816200" y="755640"/>
          <a:ext cx="5511600" cy="5346720"/>
        </p:xfrm>
        <a:graphic>
          <a:graphicData uri="http://schemas.openxmlformats.org/drawingml/2006/table">
            <a:tbl>
              <a:tblPr/>
              <a:tblGrid>
                <a:gridCol w="688680"/>
                <a:gridCol w="689040"/>
                <a:gridCol w="688680"/>
                <a:gridCol w="689040"/>
                <a:gridCol w="689040"/>
                <a:gridCol w="689040"/>
                <a:gridCol w="689040"/>
                <a:gridCol w="68904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4572000" y="304920"/>
            <a:ext cx="0" cy="6095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50480" y="6172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50480" y="228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342432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96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5088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816200" y="755640"/>
          <a:ext cx="5511600" cy="5346720"/>
        </p:xfrm>
        <a:graphic>
          <a:graphicData uri="http://schemas.openxmlformats.org/drawingml/2006/table">
            <a:tbl>
              <a:tblPr/>
              <a:tblGrid>
                <a:gridCol w="689040"/>
                <a:gridCol w="688680"/>
                <a:gridCol w="689040"/>
                <a:gridCol w="689040"/>
                <a:gridCol w="689040"/>
                <a:gridCol w="689040"/>
                <a:gridCol w="688680"/>
                <a:gridCol w="689040"/>
              </a:tblGrid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50480" y="228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50480" y="6172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14240" y="1447920"/>
            <a:ext cx="205740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14240" y="5410080"/>
            <a:ext cx="205740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514600" y="3429000"/>
            <a:ext cx="1371600" cy="68580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514600" y="4114800"/>
            <a:ext cx="0" cy="129528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514600" y="1447560"/>
            <a:ext cx="1371600" cy="198108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762120"/>
            <a:ext cx="1463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 if you’re using graph paper, count the squ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916280"/>
            <a:ext cx="83822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3880" y="446040"/>
            <a:ext cx="6096240" cy="596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43000" y="596880"/>
            <a:ext cx="6781680" cy="57294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53009" dir="2906017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9:17:02Z</dcterms:created>
  <dc:creator>Whitfield</dc:creator>
  <dc:description/>
  <dc:language>en-US</dc:language>
  <cp:lastModifiedBy>Bruno Reddy</cp:lastModifiedBy>
  <dcterms:modified xsi:type="dcterms:W3CDTF">2006-01-12T21:42:01Z</dcterms:modified>
  <cp:revision>54</cp:revision>
  <dc:subject/>
  <dc:title>Slide 1</dc:title>
</cp:coreProperties>
</file>