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D0F-5C04-4F44-A72C-2F984E3B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93B-C29E-428D-9D1C-40F7AE05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E40-1ED6-4EFC-8333-C4169083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58F-DAAF-4292-BAA8-E9FAA5CE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F0A-DE07-4A9A-83F6-8ABD27D0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C87-712B-4AC3-B5E6-4E9FAB51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208-CF76-44AB-A963-2A3C70E6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AA6-53D1-402D-9B0E-4E3753FA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D89-ADDC-437B-9A87-EA3D02C1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0C0-8EF7-4C3B-9D4A-BF6C2F7B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FCC-9CBF-4484-A392-A2EBA91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0BD-4E5B-40BE-9918-BADCD335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r Red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DD73-2CB0-4F34-BD42-1F4BF676F43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form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 the difference between reflection, rotation and transl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 able to reflect simple shapes in vertical or horizontal mirror li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91492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64000" y="3068640"/>
            <a:ext cx="291492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l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flip an object in the mir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2421000"/>
            <a:ext cx="0" cy="360036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12400" y="6093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rro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185920" cy="2914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urn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24360" y="5373720"/>
            <a:ext cx="2964240" cy="1179000"/>
            <a:chOff x="3924360" y="5373720"/>
            <a:chExt cx="2964240" cy="1179000"/>
          </a:xfrm>
        </p:grpSpPr>
        <p:sp>
          <p:nvSpPr>
            <p:cNvPr id="55" name=""/>
            <p:cNvSpPr/>
            <p:nvPr/>
          </p:nvSpPr>
          <p:spPr>
            <a:xfrm>
              <a:off x="4427640" y="602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924360" y="5373720"/>
              <a:ext cx="2964240" cy="1179000"/>
              <a:chOff x="3924360" y="5373720"/>
              <a:chExt cx="2964240" cy="117900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3924360" y="5373720"/>
                <a:ext cx="792000" cy="79200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33339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748040" y="6093000"/>
                <a:ext cx="214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90° Clockwi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39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slide an object in any dir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71628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grpSp>
        <p:nvGrpSpPr>
          <p:cNvPr id="63" name=""/>
          <p:cNvGrpSpPr/>
          <p:nvPr/>
        </p:nvGrpSpPr>
        <p:grpSpPr>
          <a:xfrm>
            <a:off x="4067280" y="4508640"/>
            <a:ext cx="1981440" cy="1901160"/>
            <a:chOff x="4067280" y="4508640"/>
            <a:chExt cx="1981440" cy="1901160"/>
          </a:xfrm>
        </p:grpSpPr>
        <p:sp>
          <p:nvSpPr>
            <p:cNvPr id="64" name=""/>
            <p:cNvSpPr/>
            <p:nvPr/>
          </p:nvSpPr>
          <p:spPr>
            <a:xfrm>
              <a:off x="4118760" y="595008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ight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67280" y="4508640"/>
              <a:ext cx="1152360" cy="1393560"/>
            </a:xfrm>
            <a:custGeom>
              <a:avLst/>
              <a:gdLst>
                <a:gd name="textAreaLeft" fmla="*/ 384120 w 1152360"/>
                <a:gd name="textAreaRight" fmla="*/ 987120 w 1152360"/>
                <a:gd name="textAreaTop" fmla="*/ 988200 h 1393560"/>
                <a:gd name="textAreaBottom" fmla="*/ 1193760 h 139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414"/>
                  </a:moveTo>
                  <a:lnTo>
                    <a:pt x="15314" y="18414"/>
                  </a:lnTo>
                  <a:lnTo>
                    <a:pt x="15314" y="7200"/>
                  </a:lnTo>
                  <a:lnTo>
                    <a:pt x="12214" y="7200"/>
                  </a:lnTo>
                  <a:lnTo>
                    <a:pt x="16907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04880" y="522936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p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21146 1.11111E-006 C 0.30643 1.11111E-006 0.42327 -0.06019 0.42327 -0.10903 L 0.42327 -0.21783 E">
                                      <p:cBhvr>
                                        <p:cTn id="5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22:21:02Z</dcterms:created>
  <dc:creator>Bruno Reddy</dc:creator>
  <dc:description/>
  <dc:language>en-US</dc:language>
  <cp:lastModifiedBy>Bruno Reddy</cp:lastModifiedBy>
  <dcterms:modified xsi:type="dcterms:W3CDTF">2006-05-14T18:13:36Z</dcterms:modified>
  <cp:revision>6</cp:revision>
  <dc:subject/>
  <dc:title>Transformations</dc:title>
</cp:coreProperties>
</file>